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823-46D3-4793-8F99-623F61F48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B4F9-47E1-4C78-A13F-4CBBE4CF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tion of people using iodized salt from approx. 20% in 1990 to approx. 70% in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8 million newborns in developing countries every year remain unprotected from the lifelong consequences of brain damage associated with iodine deficiency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.9 billion affected according to 204 estimate (again, approximately one-thi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17C-BA8D-4F6F-A8D4-B19DD8F2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380A-3C8D-496F-8684-B4F6FB4FD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13BC-DBC9-44C2-BD70-24DDADD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9DE3B-638F-40C4-A863-0C9568F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E2BA8-1B96-44B5-B30E-C423652A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B9F56-FCCC-40CD-BE73-849C6B8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5EABC-FE67-413B-B6BA-B92BB16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F59D7-C1EB-4EEC-BDFF-44610B0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B4FAA0-2B3A-46F4-A6BB-4BC269F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98AFA-A1A5-4C4C-B7AF-64DFFEAB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E7C38-C06A-436A-A7A6-D6651A9F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A86FA-91D0-4B7A-AD0A-136A0182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4EC3FD-3EEF-43D6-89F7-B43B62F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9A88-2388-4678-AF14-6E88DCA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614D48-2C08-40F4-959B-24866C1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ADCAED-5E55-41EC-8ABC-3DF30010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5B5654-E137-4B8E-A847-8599D04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C80DB-AB21-4461-BA4A-82FD0A9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03139-ADC8-4325-ACAE-477AFA7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737795-1B97-4039-869E-DEB0725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59B1CA-CD66-4FC5-97CF-A9A1F8D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0696DE-C168-4C10-832C-C15F7EB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B7099-5380-4EC0-9F94-043F72A0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D2F85-4DAB-4AC8-B3DF-A9E5C77C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D3DC-893D-461C-B4A3-833756E97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32E38-3E2A-464B-B544-9F4CCA0A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72A3AD-F358-4FA2-901F-1BC42163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662616-D0C2-4625-871E-A8F698B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3496C0-243B-471E-BE80-C61D7420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FA9848-1FC6-432E-86CB-BB3EB7F4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E369F1-9582-468A-9912-BABA8D5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8251A-F537-4AB4-A2CD-F9DD004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7DA8F-724E-461C-9FDE-79EA501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4FA6C-1629-4F8C-B4DE-CFA49BC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B811B-4CC9-441E-87F7-DB8D159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FC02-0272-487B-A2FF-E719FC0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F22364-B180-4711-AA16-B01724CB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F3337-265A-4A51-8106-148A6E04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393A22-0F41-4D83-B5B6-0A323176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6A7F45-F018-4299-92ED-094590F5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261104-75A8-41E1-95AC-F8278D6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43799-4849-4188-A369-0B149EA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CD9239-8270-440F-81B9-9C25C5EC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F54626-627A-4EA1-BDC8-323CD52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BCAE52-7D89-4DB1-BA29-CB177322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A8B74F-3B44-4830-B2CE-100B7EC4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5FF01-9A10-43F2-8180-B97CE65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3FE91-DFB4-4280-84FE-98B4351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A25D9A-8316-4570-ACF9-493631B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90082-5FE0-4123-B5EE-4A03784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37E1CC-9698-486F-AE29-4D27AE9E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039FC6-FC2F-42E6-AA21-BB050A6B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F3E7F-0B99-4C34-9493-9222C0A6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476D4-ACC3-4BAF-A44C-C35F724D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137CD-E8BF-4F2D-AADA-04E4816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3467-3141-43AE-8D27-FF4FB346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FFF4-DC61-401B-8F04-6865582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9BF7-4971-4098-8566-3CFFC54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81F10-C72B-4640-8A7C-1702435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DF932-EEEF-4C1D-BD91-8492ED4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03CD-6072-4036-B866-6D46FFB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A5B3-D594-4BF1-A14C-A48DA894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7FB3-2F70-43D0-A343-AFBE5D4E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D3026-9D13-4FD0-A199-3A915A78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C1B3C-A744-46AF-A074-C25CA61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D360C-3873-4BD1-8265-C546192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FB7C2-CEDC-4112-BD07-F200E88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8C3CC-BE7E-4793-828B-CEF7621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B421-0AB8-4343-A9EA-9EDD481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118BE-4286-4C4E-82FD-54E0DA2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A538E-8AE9-448B-B50A-5137130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8D94D-B065-4289-9C43-4C99717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0AB89-B0F7-4887-BB46-C3D8EC6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03066-1755-4A3D-814F-267939F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4DF88-6E96-4AC9-9BFD-D31EABD6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36AE4-1C85-4D91-BE06-1885464F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578F2-9E1F-47CC-9AC8-4410F03D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C6604-F8FF-4D68-A586-F569397D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FADE0-4679-4864-9DF6-2B0EC70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BCE7-8ED7-420F-AC79-BA6E72D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80084-4CA9-4D67-9DB7-8082B3B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F2E91-2F55-496F-9BD4-4CC1F3E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54EBE-EB74-47F5-9B49-61AF3952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F6EB8-B288-42F8-BE4B-23D72BA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21D91-7F8F-4037-9835-1C272F5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F31B0-09F2-4E79-A425-D36A84B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4121E-2B7F-4142-99B1-D421565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CF5F7-23C3-4116-852E-5F0A5EFF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EF26A-2475-4846-A443-C323C0CD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4DFDB-3CC8-4BF3-A96E-5EBC8A4E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4FAA-B382-408D-B112-B7809221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943A2-0B36-45F7-8615-55556507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A39BF-C5EE-4C3F-AE67-D97C8007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B70BD-3749-4AA6-93F3-4581D5B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94FDB-1893-4941-A62F-979A5F1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54ED7-9548-42FD-BB74-1036731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99EB5-0AD0-4540-889A-8E68BB3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CF530-047F-4829-83BD-56329C7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41351-8ABA-4C55-B8B8-89A773F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D1684-A116-4EF2-8AAA-F111DE6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B8223-976B-4015-AB87-6D690B3D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8368-9067-47BB-A9BB-E3B55A94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F28F0-89E8-4B0A-A7ED-B90820D6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5DA14-3895-4C01-ADE7-6BBA859B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D746-2665-4AC6-9E14-18721A16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13733-184D-49E5-A879-51FFC71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67B82-E2B5-4E32-8AB0-FFEFE9C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748E2-1ED3-4898-807F-923C427E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A2647-789A-4CA7-932F-E281A83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C4A35-AC02-4C0F-B5BB-54E80A1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DC5FE-D27D-4A91-9609-4128C1C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C12FE-E507-4E22-AC9D-48954CF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5BC1-11D6-4852-A974-3D895D6D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F6DE7-B98C-46EF-B512-79929A3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36E66-8E1F-41FB-A80C-ED88CB1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74262-B545-4302-B392-29635B0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E6ECB-065D-445E-9CDF-CF4C421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40242-2A00-4068-985B-95220F0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495AC-4FDC-42E2-897D-E2B7896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5B5E7-7073-4D46-8E92-CE0CB83C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F9FB0-921B-437B-B25F-292ED6F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4AFB8-38BF-4F99-A8D9-D330B2A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A5595-AD21-4AA8-8AD3-3F62E2E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FA6B-F49D-4060-854B-8E751EE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67685-CD6F-40F5-B22E-D56E5DA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9311A-EED4-4CD1-9650-444DEB3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95381-4D01-4693-BCF7-21491120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4D566-35C0-4EA0-AE6C-8C6C602F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2E752-9343-42C5-B0D3-C9A295B3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F7CA3-1924-42FB-AC39-FCA63311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A3DF0-A169-400E-901D-FDBB323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10DA4-1480-49DF-8423-99F2ECDD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B7912-6F20-4CC3-A157-7958BE35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C0CD0-24D0-4544-82D7-67781868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EDA1-7D4C-4B88-9179-2F3D94D4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85B7B-BF56-4D6C-ADE0-22B4A511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6830C-03E4-4C33-9925-DE23530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FA628-3D23-4E1B-BA18-CF93F8A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0EB88-8BB0-4EF9-A2C3-D1E5A4F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3C41D-9151-4D3B-8ACA-73B36CC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548D5-385F-43E7-ADF8-AC16B3C9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119BC-68D3-4D8E-8381-C80EE6CE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76EFE-3979-4B33-834A-029DD2A4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25255F-AAF7-42D8-B9D7-09955D6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7508C-9275-4507-A023-B0FD2A2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3B8-DF2C-4C69-B5C0-5A8F2122D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94B-E5CB-42AB-852D-E83640ED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631-AAA2-442A-A1FF-0CB695BD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E480-ED7A-49EB-93CD-3EAE61D7A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806-D9AD-4616-AB36-6909813E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5DF1-4F52-4475-BA5B-35A5A52C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4DCF-AFCE-4482-A8D9-C28F19F15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34E3-A11D-4253-9B0C-75F23DD8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1FF-FE71-4DB7-B87E-B49FCD351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916-0681-4B1C-A24F-11DC2E7F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DA4-CD7E-42CB-BA46-3B3ECA31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2743200" y="6324480"/>
            <a:ext cx="35812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S4 Survey Desig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033-06E2-45E3-B248-8748A2AF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200" spc="-1" strike="noStrike">
                <a:solidFill>
                  <a:srgbClr val="00b050"/>
                </a:solidFill>
                <a:latin typeface="Saysettha OT"/>
                <a:cs typeface="Saysettha OT"/>
              </a:rPr>
              <a:t>ການສຳຫຼວດດັດສະນີໝາຍສັງຄົມລາວ</a:t>
            </a:r>
            <a:r>
              <a:rPr b="1" lang="en-US" sz="4200" spc="-1" strike="noStrike">
                <a:solidFill>
                  <a:srgbClr val="00b050"/>
                </a:solidFill>
                <a:latin typeface="Saysettha OT"/>
                <a:ea typeface="Saysettha OT"/>
              </a:rPr>
              <a:t> </a:t>
            </a:r>
            <a:r>
              <a:rPr b="1" lang="en-US" sz="4200" spc="-1" strike="noStrike">
                <a:solidFill>
                  <a:srgbClr val="00b050"/>
                </a:solidFill>
                <a:latin typeface="Saysettha OT"/>
                <a:ea typeface="Saysettha OT"/>
              </a:rPr>
              <a:t>(LSIS)</a:t>
            </a:r>
            <a:br>
              <a:rPr sz="4000"/>
            </a:br>
            <a:r>
              <a:rPr b="1" lang="lo-LA" sz="3600" spc="-1" strike="noStrike">
                <a:solidFill>
                  <a:srgbClr val="00b050"/>
                </a:solidFill>
                <a:latin typeface="Saysettha OT"/>
                <a:cs typeface="Saysettha OT"/>
              </a:rPr>
              <a:t>ການອົບຮົມນັກເດີນສຳຫຼວ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36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ແບບສອບຖາມຄົວເຮືອນ</a:t>
            </a:r>
            <a:r>
              <a:rPr b="0" lang="en-US" sz="3600" spc="-1" strike="noStrike">
                <a:solidFill>
                  <a:srgbClr val="002060"/>
                </a:solidFill>
                <a:latin typeface="Saysettha OT"/>
                <a:ea typeface="Saysettha O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0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ກືອ ໄອໂອດີ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457200" y="3581280"/>
            <a:ext cx="822960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ການຂາດສານ</a:t>
            </a:r>
            <a:r>
              <a:rPr b="1" lang="lo-LA" sz="1200" spc="-1" strike="noStrike">
                <a:solidFill>
                  <a:srgbClr val="c00000"/>
                </a:solidFill>
                <a:latin typeface="Saysettha OT"/>
                <a:ea typeface="Saysettha OT"/>
              </a:rPr>
              <a:t> </a:t>
            </a:r>
            <a:r>
              <a:rPr b="1" lang="lo-LA" sz="3600" spc="-1" strike="noStrike">
                <a:solidFill>
                  <a:srgbClr val="c00000"/>
                </a:solidFill>
                <a:latin typeface="Saysettha OT"/>
                <a:cs typeface="Saysettha OT"/>
              </a:rPr>
              <a:t>ໄອໂອດີນ </a:t>
            </a:r>
            <a:r>
              <a:rPr b="1" lang="en-US" sz="3600" spc="-1" strike="noStrike">
                <a:solidFill>
                  <a:srgbClr val="c00000"/>
                </a:solidFill>
                <a:latin typeface="Saysettha OT"/>
                <a:ea typeface="Saysettha OT"/>
              </a:rPr>
              <a:t>(ID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80880" y="1906560"/>
            <a:ext cx="838224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002060"/>
              </a:buClr>
              <a:buSzPct val="70000"/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າຍເຫດສຳຄັນໃນໂລກ ກ່ຽວກັບພັດທະນາການທາງດ້ານສະຕິບັນຍາລ້າຊ້າ ແລະ ການພັດທະນາເຄືອນໄຫວຂອງຮ່າງກາຍຜິດປົກກະຕິ  ທີ່ສາມາດປ້ອງກັນໄດ້ ໃນເດັກນ້ອ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002060"/>
              </a:buClr>
              <a:buSzPct val="70000"/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ຜົນກະທົບເລີ້ມຈາກ ການຈະເລີນເຕີບໂຕທາງດ້ານຈິດໃຈຜິດປົກກະຕິ ແລະ ການພັດທະນາໄປສູ່ການເປັນບັນຍາອ່ອນ ຊື່ງແມ່ນຮູບແບບຮ້າຍແຮງທີ່ສຸ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002060"/>
              </a:buClr>
              <a:buSzPct val="70000"/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ເພີ້ມຄວາມສ່ຽງສູງ ຕໍ່ກັບການຕາຍຂອງລູກໃນທ້ອງ ແລະ ການລຸລູ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002060"/>
              </a:buClr>
              <a:buSzPct val="70000"/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ສ່ວນໃຫຍ່ ແລະ ເຫັນເດັ່ນຊັດ ແມ່ນພົວພັນກັບການເປັນຄໍໜຽ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4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ວາມເປັນມ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2786040" y="1844640"/>
            <a:ext cx="2886120" cy="37450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3208320" y="2114640"/>
            <a:ext cx="2041560" cy="26668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3948120" y="2214720"/>
            <a:ext cx="561960" cy="7365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4122720" y="2298600"/>
            <a:ext cx="211320" cy="28440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 flipH="1">
            <a:off x="4194000" y="2468520"/>
            <a:ext cx="492480" cy="1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 flipH="1">
            <a:off x="4194000" y="2809800"/>
            <a:ext cx="562320" cy="18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0"/>
          <p:cNvSpPr/>
          <p:nvPr/>
        </p:nvSpPr>
        <p:spPr>
          <a:xfrm flipH="1" flipV="1">
            <a:off x="4193640" y="3657240"/>
            <a:ext cx="932040" cy="32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4637160" y="224460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ບັນຍາອ່ອນ</a:t>
            </a:r>
            <a:r>
              <a:rPr b="1" lang="en-US" sz="1800" spc="-1" strike="noStrike">
                <a:solidFill>
                  <a:srgbClr val="000000"/>
                </a:solidFill>
                <a:latin typeface="Saysettha OT"/>
                <a:ea typeface="Saysettha OT"/>
              </a:rPr>
              <a:t>: 11 </a:t>
            </a: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ລ້ານ ຄົ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4581720" y="2643120"/>
            <a:ext cx="46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ວາມເສຍຫາຍດ້ານສະໝອງ</a:t>
            </a:r>
            <a:r>
              <a:rPr b="1" lang="en-US" sz="1800" spc="-1" strike="noStrike">
                <a:solidFill>
                  <a:srgbClr val="000000"/>
                </a:solidFill>
                <a:latin typeface="Saysettha OT"/>
                <a:ea typeface="Saysettha OT"/>
              </a:rPr>
              <a:t>: 43 </a:t>
            </a: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ລ້ານ ຄົ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083200" y="34624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ໍໜຽງ</a:t>
            </a:r>
            <a:r>
              <a:rPr b="1" lang="en-US" sz="1800" spc="-1" strike="noStrike">
                <a:solidFill>
                  <a:srgbClr val="000000"/>
                </a:solidFill>
                <a:latin typeface="Saysettha OT"/>
                <a:ea typeface="Saysettha OT"/>
              </a:rPr>
              <a:t>: 750 </a:t>
            </a: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ລ້ານ ຄົ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2819520" y="4876920"/>
            <a:ext cx="2895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606060"/>
                </a:solidFill>
                <a:latin typeface="Saysettha OT"/>
                <a:cs typeface="Saysettha OT"/>
              </a:rPr>
              <a:t>ປະຊາກອນທັງໝົ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606060"/>
                </a:solidFill>
                <a:latin typeface="Saysettha OT"/>
                <a:cs typeface="Saysettha OT"/>
              </a:rPr>
              <a:t>ທີ່ມີຄວາມສ່ຽງ</a:t>
            </a:r>
            <a:r>
              <a:rPr b="1" lang="en-US" sz="1800" spc="-1" strike="noStrike">
                <a:solidFill>
                  <a:srgbClr val="606060"/>
                </a:solidFill>
                <a:latin typeface="Saysettha OT"/>
                <a:ea typeface="Saysettha OT"/>
              </a:rPr>
              <a:t>: 1.6</a:t>
            </a:r>
            <a:r>
              <a:rPr b="1" lang="lo-LA" sz="1800" spc="-1" strike="noStrike">
                <a:solidFill>
                  <a:srgbClr val="606060"/>
                </a:solidFill>
                <a:latin typeface="Saysettha OT"/>
                <a:ea typeface="Saysettha OT"/>
              </a:rPr>
              <a:t> </a:t>
            </a:r>
            <a:r>
              <a:rPr b="1" lang="lo-LA" sz="1800" spc="-1" strike="noStrike">
                <a:solidFill>
                  <a:srgbClr val="606060"/>
                </a:solidFill>
                <a:latin typeface="Saysettha OT"/>
                <a:cs typeface="Saysettha OT"/>
              </a:rPr>
              <a:t>ຕື້ ຄົ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1371600" y="14479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20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ຈຳນວນຜູ້ເຈັບປ່ວຍຍ້ອນການຂາດສານ ໄອໂອດີນ </a:t>
            </a:r>
            <a:r>
              <a:rPr b="1" lang="en-US" sz="2000" spc="-1" strike="noStrike">
                <a:solidFill>
                  <a:srgbClr val="000000"/>
                </a:solidFill>
                <a:latin typeface="Saysettha OT"/>
                <a:ea typeface="Saysettha OT"/>
              </a:rPr>
              <a:t>-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1523880" y="5715000"/>
            <a:ext cx="548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ຄາດຄະເນ </a:t>
            </a:r>
            <a:r>
              <a:rPr b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1.6 </a:t>
            </a:r>
            <a:r>
              <a:rPr b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ື້ ຄົນ ທີ່ມີຄວາມສ່ຽງດັ່ງກ່າ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ມ່ນປະມານ </a:t>
            </a:r>
            <a:r>
              <a:rPr b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30%</a:t>
            </a:r>
            <a:r>
              <a:rPr b="1" lang="lo-LA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ຂອງປະຊາກອນໂລ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H="1">
            <a:off x="4194000" y="4876920"/>
            <a:ext cx="15782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5605560" y="4572000"/>
            <a:ext cx="2577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ູນເສຍຄວາມສາມາ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1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ໃນການຮຽນຮູ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44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ເກືອໄອໂອດີ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4034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ຖ້າ​ຜູ້​ຖືກສຳພາດ​ຕອບ​ວ່າ ບໍ່​ໄດ້​ໃຊ້​ເກືອ​ໃນ​ເວລາ​ແຕ່ງ​ອາຫານ ຫຼື ບໍ່​ໄດ້​ແຕ່ງ​ກິ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ນ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, </a:t>
            </a:r>
            <a:r>
              <a:rPr b="0" lang="lo-LA" sz="2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ໃຫ້​ຖາມ​ຕື່ມເຖິງຕົວຢ່າງ​ເກືອ​ທີ່​ຄົວ​ເຮືອນ​ມັກ​ໃຊ້​ສຳລັບ​ແຕ່ງ​ກິ​ນ​ເປັນ​ປົກກະຕິ ​ແລະ ທຳ​ການ​ລົດ​ລອງ​ເກືອ​ດັ່ງກ່າວ</a:t>
            </a:r>
            <a:r>
              <a:rPr b="0" lang="en-GB" sz="2400" spc="-1" strike="noStrike">
                <a:solidFill>
                  <a:srgbClr val="002060"/>
                </a:solidFill>
                <a:latin typeface="Saysettha OT"/>
                <a:ea typeface="Saysettha O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ຜົນການທົດລອງເກື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4" descr="D:\WorksofHRD\Lsis\thalat 1-7 Aug 2011\PPT preparations\salt.jpg"/>
          <p:cNvPicPr/>
          <p:nvPr/>
        </p:nvPicPr>
        <p:blipFill>
          <a:blip r:embed="rId1"/>
          <a:stretch/>
        </p:blipFill>
        <p:spPr>
          <a:xfrm>
            <a:off x="1420920" y="3816360"/>
            <a:ext cx="2779560" cy="2822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"/>
          <p:cNvPicPr/>
          <p:nvPr/>
        </p:nvPicPr>
        <p:blipFill>
          <a:blip r:embed="rId2"/>
          <a:stretch/>
        </p:blipFill>
        <p:spPr>
          <a:xfrm>
            <a:off x="4950000" y="3882960"/>
            <a:ext cx="2755800" cy="2828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69343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o-LA" sz="4400" spc="-1" strike="noStrike">
                <a:solidFill>
                  <a:srgbClr val="002060"/>
                </a:solidFill>
                <a:latin typeface="Saysettha OT"/>
                <a:cs typeface="Saysettha OT"/>
              </a:rPr>
              <a:t>ຈຸດທີ່ຄວນເອົາໃຈໃສ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ຳນົດວ່າມີທາດ ໂປຕັດຊອມ ໄອໂອດີນ ມີຢູ່ໃນເກື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ຊຸດທົດສອບຈະຖືກສະໜອງໃຫ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ປະຕິບັດການທົດສອບກັບ ເກືອຕົວຢ່າງ ທີ່ສະໜອງໃຫ້ ໂດຍຜູ້ຕອບສຳພາ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Saysettha 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ຈຸດທີ່ຕັດເອົາ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15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aysettha OT"/>
                <a:ea typeface="Saysettha OT"/>
              </a:rPr>
              <a:t>ppm </a:t>
            </a:r>
            <a:r>
              <a:rPr b="0" lang="lo-LA" sz="28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ຕ້ອງໄດ້ເກັບຮັກສາໄວ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aysettha OT"/>
                <a:ea typeface="Saysettha OT"/>
              </a:rPr>
              <a:t>% </a:t>
            </a:r>
            <a:r>
              <a:rPr b="1" lang="lo-LA" sz="3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ການບໍລິໂພກ ເກືອທີ່ມີ ໄອໂອດີນພຽງພ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38080" y="1676520"/>
          <a:ext cx="7467840" cy="330660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1523880"/>
                <a:gridCol w="1524240"/>
              </a:tblGrid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ເຂ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% </a:t>
                      </a: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ຄົວເຮືອນ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ທີ່ບໍ່ມີເກື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ບໍ່ມີສ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o-LA" sz="1800" spc="-1" strike="noStrike">
                          <a:solidFill>
                            <a:srgbClr val="ffffff"/>
                          </a:solidFill>
                          <a:latin typeface="Saysettha OT"/>
                          <a:cs typeface="Saysettha OT"/>
                        </a:rPr>
                        <a:t>ມີສ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aysettha OT"/>
                          <a:ea typeface="Saysettha OT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ຕົວເມືອ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9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ຊົນນະບົດ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8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ຊົນນະບົດບໍ່ມີທາງເຂົ້າເຖິ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2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7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o-LA" sz="1800" spc="-1" strike="noStrike">
                          <a:solidFill>
                            <a:srgbClr val="000000"/>
                          </a:solidFill>
                          <a:latin typeface="Saysettha OT"/>
                          <a:cs typeface="Saysettha OT"/>
                        </a:rPr>
                        <a:t>ທັງໝົ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1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aysettha OT"/>
                          <a:ea typeface="Saysettha OT"/>
                        </a:rPr>
                        <a:t>8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530" name="TextBox 5"/>
          <p:cNvSpPr/>
          <p:nvPr/>
        </p:nvSpPr>
        <p:spPr>
          <a:xfrm>
            <a:off x="1447920" y="537696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ແຫຼ່ງ</a:t>
            </a:r>
            <a:r>
              <a:rPr b="1" i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: MICS – </a:t>
            </a:r>
            <a:r>
              <a:rPr b="1" i="1" lang="lo-LA" sz="1600" spc="-1" strike="noStrike">
                <a:solidFill>
                  <a:srgbClr val="000000"/>
                </a:solidFill>
                <a:latin typeface="Saysettha OT"/>
                <a:cs typeface="Saysettha OT"/>
              </a:rPr>
              <a:t>ສປປ ລາວ</a:t>
            </a:r>
            <a:r>
              <a:rPr b="1" i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Saysettha OT"/>
                <a:ea typeface="Saysettha OT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19:38:17Z</dcterms:created>
  <dc:creator>eholmberg</dc:creator>
  <dc:description/>
  <dc:language>en-US</dc:language>
  <cp:lastModifiedBy>Corporate Edition</cp:lastModifiedBy>
  <dcterms:modified xsi:type="dcterms:W3CDTF">2011-08-25T01:56:21Z</dcterms:modified>
  <cp:revision>96</cp:revision>
  <dc:subject/>
  <dc:title>Slide 1</dc:title>
</cp:coreProperties>
</file>